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188D-35A1-4DA1-99FC-7D35D8ED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CA7F-64FD-41F2-B4C3-114195216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99C8-F253-4B27-9432-650A6098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44E6-7DD0-453C-BA38-4D349150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2F6C-4A0F-4C83-AFD9-E1CD891C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52B7-7A87-4527-B67F-13F385990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9D79-CC5E-4F1A-ABC5-20329D468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9AC5-9B4B-4515-AC82-CE507EB7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8C6F-49F0-492B-B953-3517356D2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7E7D-5520-4456-9C57-699DE8732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DF26-0050-4955-9D7C-BF5AA773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2637-6FAC-44AC-AB90-1381FBD6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2CB1-CAEA-433D-A3BD-9EE47495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60E1-17EA-4450-A8AF-C298546C8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B1A7-073E-43B7-92A1-D88124087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4CA1-A4B2-42D1-B1CE-052736E6F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910E-94A2-4917-B9CD-58320724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1BC7-39D1-4BAA-B4D9-DDC449368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C93-E5DF-4C8F-A11E-1A52F26D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6443-3DCB-471F-857A-DA910013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4196-B971-4343-B54B-3024DB76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683-148A-4C57-BAEF-5754F66F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DE8C-DDAB-490E-94B7-56256921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34F3-1B6D-4FB4-9979-C947E827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804-A760-4286-8E59-EF185027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F7F-AA99-48EE-B412-5FD2733C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A79-BFEF-4C24-90FB-444427C0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AF6-5580-4D5A-81F7-889E625F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A71C-2A60-4064-819B-D5239467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979A-BA51-43DA-84DB-40EA3FE7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CE1C-AD73-492A-BAB9-42B1F014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FD4C-B988-416B-AD4E-2586600A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7D0B-DDCF-4658-8366-36DE1C71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8B60-D5E6-4A68-9751-B387E529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1017-72E3-4B9E-8005-757B5036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7CE-52F7-4C58-9E14-CCE822FB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EDBF-43DF-49F1-8ACF-1DCB186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1C5E-FE62-43A0-884D-D1339897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B1F7-DC8F-4024-B9FB-D06E26E7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D7F9-B11C-42EB-A5B1-B34911BF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3FE7-6395-44E7-B41B-3FA9C2BA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BD71-7B43-4852-BB81-1A528F05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AF5C-C020-4B32-A5A4-D2D72B67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B21A-590C-4A5B-A156-32B487ED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2C9A-EFFD-43AE-9F84-D7BBE08C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F8D9-4E75-4FE3-9053-D7D06656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198-084E-435B-A859-EC35A447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1F5A-259A-4999-9BA5-571C7F88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21B5-F0F1-4996-8D38-20732DC2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6F48-B626-4313-8628-F010F86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A51C-37AF-40A6-8FB6-922B3DA2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E1294-6D9B-4596-A9AA-5C7A205D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74F8-992F-4611-97F7-46870352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9431-08BE-4431-964A-A007B17D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EB1-0C78-46B2-8A47-B88ED2D2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7F3-095B-47E5-91B9-311389C0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C12-D874-4748-A0E3-B42539F3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AD0-943B-4164-9511-D2E351C8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E65-9721-4CF8-AE73-C6AD64E1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79D-FECD-4079-8C23-2A88C38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ED2D-8D2E-4586-85B3-3B5D662BB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0BCE-9166-4892-AF23-631AEC705EF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79A4-3F8E-4FDE-B230-BA0E056C874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50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6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22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2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eroglyphic for 'a' was used only in the beginning of words (where a syllabic 'a' might occur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4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1-17T17:49:08Z</dcterms:modified>
  <cp:revision>20</cp:revision>
  <dc:subject/>
  <dc:title>Slide 1</dc:title>
</cp:coreProperties>
</file>